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63C-CCEB-410E-97B5-A4A04219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0D4-6B9E-40A7-8219-B3F97A64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068-530A-41E5-B613-972F6C47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8BA-AEEE-4B3C-8471-60305AD4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F57-C5CC-4CFB-810A-9911479A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F1F-43B2-44A5-A1C9-3D86D84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554-5FFC-4C9A-ADCB-C2047E07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49B-66EC-4942-BD04-534EE84C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B2E-4E80-4109-92D6-C80114C4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5DE-0698-442E-924E-D239FC6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46B-6C02-4E61-81A5-3599827E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096-3A33-48D3-B55D-5DED927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ADE-2605-43DB-B754-C9565778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nis-pedagogie.org/index.php?spec=lexique&amp;numpage=179&amp;numfamille=11&amp;numrub=33&amp;numcateg=&amp;numsscateg=&amp;numpara=2342&amp;lettre=E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883908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Défini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Explant utilis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Principales ét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Voies de l’embryogénèse som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 Avantages et lim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0" y="3048120"/>
            <a:ext cx="3733920" cy="3660120"/>
          </a:xfrm>
          <a:prstGeom prst="rect">
            <a:avLst/>
          </a:pr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oies de l’embryogénèse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client\Desktop\sans-titre-7.png"/>
          <p:cNvPicPr/>
          <p:nvPr/>
        </p:nvPicPr>
        <p:blipFill>
          <a:blip r:embed="rId1"/>
          <a:stretch/>
        </p:blipFill>
        <p:spPr>
          <a:xfrm>
            <a:off x="0" y="14479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Voie indirecte ou passage par un 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204560"/>
            <a:ext cx="9144000" cy="69246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mbreuses divisions cellulaires sont rapidement provoquées à partir des tissus cultivés grâce à l'apport d'une forte dose d'auxine. 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al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alors obtenu, c'est à dire un amas de cellules indifférenciées, rejuvénilisées et qui pourront donner naissance à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embryons bipolair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avec un méristème de racines et un méristème de tiges)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vont se comporter comme des embryons zygotiques, (issus de la fécondation entre une cellule sexuelle femelle et une cellule sexuelle mâ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Embryon som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client\Desktop\cafe.jpg"/>
          <p:cNvPicPr/>
          <p:nvPr/>
        </p:nvPicPr>
        <p:blipFill>
          <a:blip r:embed="rId1"/>
          <a:stretch/>
        </p:blipFill>
        <p:spPr>
          <a:xfrm>
            <a:off x="2819520" y="144792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client\Desktop\stdprod_088912.jpg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Espace réservé du contenu 3" descr="img-1.jpg"/>
          <p:cNvPicPr/>
          <p:nvPr/>
        </p:nvPicPr>
        <p:blipFill>
          <a:blip r:embed="rId1"/>
          <a:stretch/>
        </p:blipFill>
        <p:spPr>
          <a:xfrm>
            <a:off x="228600" y="4572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143000"/>
            <a:ext cx="8381880" cy="54864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embryogenèse somatique est une technique qui s'adapte bien à la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duction industriel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. Les embryons somatiques peuvent être initiés dans d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oréacteur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afin soit de produire de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semences artifici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les encapsulant dans un gel nutritif, ou encore pour la synthèse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étabolites secondair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és dans des médicaments, colorants, etc. Ce peut-être également un moyen de cloner des lign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1905120"/>
            <a:ext cx="9144000" cy="36576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litre de milieu de culture contenu dans un fermenteur peut produire des milliers, voire des millions d'embryons somatique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éfinition de l'embryogenèse somatiqu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0240" y="1219320"/>
            <a:ext cx="9023400" cy="5410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'embryogenèse somatique est une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forme de multiplication végétativ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qui permet d'obtenir une multitude de plantules identiques génétiquement à la plante donneuse d'explants.C'est  donc l'obtention d'embryons à partir de cellules somatiques, c'est à dire non sexuel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éfinition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Principe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3.Obtention de la phase ha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4. Andr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5.Gynogénè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6.Retour à l'état fertile diploï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- Traitement à la colch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7.Intérêt de l’haplodiploi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066680"/>
            <a:ext cx="9144000" cy="510552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ette technique de multiplication s'adapte à l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automatisation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ce qui permet de réduire les coûts de prod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rend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en plantes produites est très élev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embryons obtenus sont d'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rigine unicellulaire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, il n'y a donc pas de problème de  chimè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Avantag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2ef3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ssage par cal peut amener des risques de dérive génétique, c'est à dire d'obtention d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variant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i seraient différents de la plante de dé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médier à cette situation, on pratique après fécondation un prélèvement précoce des embryons pour les mettre en culture sur un milieu artificiel nutritif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6: Le sauvetage d'embryons interspécifiqu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sauvetage d’embryon consiste à prélever un embryon immature afin de le cultiver in vitro pour accélérer les cycles de végéta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ce sauvetage peut aussi être effectué car l’embryon ne pourrait peut être pas se développer dans les tissus maternels comme dans le cas d’un croisement interspécifiqu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s de croisements interspécifiques, des barrières naturelles empêchent le développement complet de l'embry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remédier à cette situation, on pratique, après fécondation, un prélèvement précoce des embryons pour les mettre en culture sur un milieu artificiel nutriti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technique de culture in vitro est appelée sauvetage d'embryons interspécifiqu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6: Le sauvetage d'embryons interspécifique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ncipe de la technique du Sauvetage d'embryon interspécifiqu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croise une espèce sauvage de tomate avec une espèce cultivée de tomate, l'embryon issu de cette fécondation va avorter à cause de l'absence d'appariement des chromosomes lors de la prophase I de la méïose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éviter cette avortement, l'embryon immature sera prélevè et mise en culture dans une boite de pétri afin d'assurer la régénération d'un nouvel individu possèdant les caractèristiques des 2 espèces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echnique du sauvetage d'embr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atibilité entre les tissus embryonnaires et maternel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spèc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vortement d'embryons issus de croisements interspécifiques est attribué à un développement retardé de l'albumen, par incomp20 mai, 2010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cupération de l'embryon doit être effectuée avant son avortement, entre 4 et 16 jours après la fécondation, selon les espèc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souvent nécessaire de réaliser ce prélèvement sous une loupe binocul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'est pourquoi on cherche à retarder cette opération pour disposer de matériel végétal plus facilement manipulabl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graines immatures sont désinfectées en surface et après dissection, les embryons sont transférés sur un milieu de culture solide appropri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ès deux semaines, les embryons ont généralement atteint le stade cotylédonai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ansfert sur un milieu riche en hormones de croissance permet la production de plant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4267440" cy="6324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648320" y="0"/>
            <a:ext cx="4038480" cy="5334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culture d'embryons imm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440" y="61920"/>
            <a:ext cx="9524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ryo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ervation de matériel vivant à très basse tempé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zote liquide (-196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peurs d’azote (-15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at de vie suspendue, ré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545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’espèces en voie de disparition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agronomique : réservoir de variabilité utilisable pour des plans de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médical : réservoir de substances actives incon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éthique : préservation d’une richesse de nature non-march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variétés agronomiques ou horticoles intéres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iter de perdre les variétés tombées en désu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rosion génétique des espèces à multiplication végé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eilleure solution : la cryopreserv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freeze2"/>
          <p:cNvPicPr/>
          <p:nvPr/>
        </p:nvPicPr>
        <p:blipFill>
          <a:blip r:embed="rId1"/>
          <a:stretch/>
        </p:blipFill>
        <p:spPr>
          <a:xfrm>
            <a:off x="1143000" y="2438280"/>
            <a:ext cx="2895480" cy="21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0" name="Picture 4" descr="storage1"/>
          <p:cNvPicPr/>
          <p:nvPr/>
        </p:nvPicPr>
        <p:blipFill>
          <a:blip r:embed="rId2"/>
          <a:stretch/>
        </p:blipFill>
        <p:spPr>
          <a:xfrm>
            <a:off x="4267080" y="2419200"/>
            <a:ext cx="2895840" cy="216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iter la formation de cristaux dans le cytopla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gélation 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shydratation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chage à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shydratation par congélation 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uvetage d’embr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compatibilité du porte gr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00000" y="2349360"/>
            <a:ext cx="8015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mences hybrides sont viables mais le développement ne peut se faire sur le pied m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génération de la plante par cultu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’embr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68360" y="5300640"/>
            <a:ext cx="65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de la triticale (Triticum x Se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1.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induit de nombreuses divisions cellulaires à partir des tissus mis en culture. Le milieu est complémenté par d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fortes doses d'auxine (2,4D) et de cytokinin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Le 2,4D est une auxine de synthèse. Elle est perçue comme une auxine par la plante mais n'est pas dégradée. Son accumulation provoque alors un choc auxinique : les cellules prolifèrent et forment un cal cellul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2. Mainte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al est transféré s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n milieu d'induc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de l'embryogenèse. Le cal cellulaire devient alors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mbryogè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On peut ainsi découper ce cal en plusieurs morceaux pour augmenter la taille de la population végét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066680"/>
            <a:ext cx="8610480" cy="5486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Étape 3. Développ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cal est transféré sur un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milieu d'expression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. Ce milieu ne contient aucune hormone et va permettre le développement des embry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380880" y="152280"/>
            <a:ext cx="8229600" cy="79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Étape 4 .Maturation et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embryons vont ensuite maturer (au bout de 5 semaines), puis germer. On obtient des plantules somatiques, elles vont alors pouvoir être cultivées en sol pour finir leur croiss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principales ét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177840" y="0"/>
            <a:ext cx="380880" cy="764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LA COMPUTERS</cp:lastModifiedBy>
  <dcterms:modified xsi:type="dcterms:W3CDTF">2001-12-31T23:17:5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